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801600" cy="96012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CDD-A27E-41E5-BD2A-31D99562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C92-D49D-48BE-8C3B-302CFA76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416-A4DA-44AA-90A2-122C8E4C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F60-8058-4CA6-B050-959D7652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CA36-7420-4F2D-8277-44DB3A4C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C62-F2CB-4D35-87F2-4F12380B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B9C-AA46-430C-B4EE-E6EAD8BE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E377-1870-4C94-8941-D1ED8BFB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6E2-58C2-45C5-9DC7-8E4C68C2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B4E9-536C-4765-B1CF-F6C1D66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D25-A90D-47ED-ACD0-E8E9CA8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CA8-07CA-4509-BAC6-AE9A850A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358920" indent="-358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9400" indent="-2998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3976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79400" indent="-2379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379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379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379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5004-4620-4C35-9183-111F4653366D}" type="slidenum">
              <a:rPr b="0" lang="it-IT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7240" y="1460520"/>
            <a:ext cx="6524640" cy="534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660680" y="1517760"/>
            <a:ext cx="352260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MUNE DI COLL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MITTENTE: Carbone Antonio e Tartaglia L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VENTO: “1) Richiesta Permesso di Costruire in Sanatoria ai sensi art. 36 del D.P.R. n° 380/01 per lavori di ampliamento, eseguiti in difformità alla Concessione Edilizia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) Richiesta Permesso di Costruire ai sensi art. 10 del D.P.R. n° 380/01 per ultimazioni lavori di finitura e realizzazione copertura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 tutto ad un fabbricato già esistente alla c/da Valle di Raio, Comune di Colliano (Sa)”, riportate catastalmente al foglio n° 37 – Part.lle 403- 9- 80- 435- 94- 95- 60 e foglio n° 32 Part.lle 346- 348- 349- 3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73080" y="5630760"/>
            <a:ext cx="309276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Valutazione di Incidenz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.P.R. n. 357/1997 e ss.mm.ii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spcAft>
                <a:spcPts val="451"/>
              </a:spcAft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CD 1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2"/>
          <p:cNvSpPr/>
          <p:nvPr/>
        </p:nvSpPr>
        <p:spPr>
          <a:xfrm>
            <a:off x="1131840" y="5129280"/>
            <a:ext cx="4695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cumentazione amministrativa, Elaborati di Progetto, Documentazione autorizzazioni, Studio di screening di valutazione Di Incidenz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magine 2" descr=""/>
          <p:cNvPicPr/>
          <p:nvPr/>
        </p:nvPicPr>
        <p:blipFill>
          <a:blip r:embed="rId1"/>
          <a:stretch/>
        </p:blipFill>
        <p:spPr>
          <a:xfrm>
            <a:off x="6551640" y="1460520"/>
            <a:ext cx="6194520" cy="5340240"/>
          </a:xfrm>
          <a:prstGeom prst="rect">
            <a:avLst/>
          </a:prstGeom>
          <a:ln w="0">
            <a:noFill/>
          </a:ln>
        </p:spPr>
      </p:pic>
      <p:sp>
        <p:nvSpPr>
          <p:cNvPr id="46" name="Line 30"/>
          <p:cNvSpPr/>
          <p:nvPr/>
        </p:nvSpPr>
        <p:spPr>
          <a:xfrm>
            <a:off x="7970760" y="3537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1" descr=""/>
          <p:cNvPicPr/>
          <p:nvPr/>
        </p:nvPicPr>
        <p:blipFill>
          <a:blip r:embed="rId2"/>
          <a:srcRect l="714" t="68751" r="96788" b="28192"/>
          <a:stretch/>
        </p:blipFill>
        <p:spPr>
          <a:xfrm>
            <a:off x="7881840" y="2727360"/>
            <a:ext cx="139680" cy="138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4" descr=""/>
          <p:cNvPicPr/>
          <p:nvPr/>
        </p:nvPicPr>
        <p:blipFill>
          <a:blip r:embed="rId3"/>
          <a:srcRect l="599" t="64583" r="96670" b="32065"/>
          <a:stretch/>
        </p:blipFill>
        <p:spPr>
          <a:xfrm>
            <a:off x="7893000" y="2892600"/>
            <a:ext cx="138240" cy="13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6"/>
          <p:cNvSpPr/>
          <p:nvPr/>
        </p:nvSpPr>
        <p:spPr>
          <a:xfrm>
            <a:off x="2638440" y="1571760"/>
            <a:ext cx="7667640" cy="720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7"/>
          <p:cNvSpPr/>
          <p:nvPr/>
        </p:nvSpPr>
        <p:spPr>
          <a:xfrm>
            <a:off x="5137200" y="3530520"/>
            <a:ext cx="17463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37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4"/>
          <p:cNvSpPr/>
          <p:nvPr/>
        </p:nvSpPr>
        <p:spPr>
          <a:xfrm>
            <a:off x="3724200" y="942840"/>
            <a:ext cx="5753160" cy="523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3"/>
          <p:cNvSpPr/>
          <p:nvPr/>
        </p:nvSpPr>
        <p:spPr>
          <a:xfrm>
            <a:off x="4497480" y="3432240"/>
            <a:ext cx="39654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PUNTO DI CONTAT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Dott. For.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Giancarlo Esposi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it-IT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izzo: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/da Bisigliano, Colliano (S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.: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33813135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EC: </a:t>
            </a: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giancarlo.esposito@epap.conafpec.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4:04:37Z</dcterms:created>
  <dc:creator>POAT Campania - Linea 2 VIA - VAS</dc:creator>
  <dc:description/>
  <dc:language>en-US</dc:language>
  <cp:lastModifiedBy>Master</cp:lastModifiedBy>
  <cp:lastPrinted>2024-06-18T09:41:21Z</cp:lastPrinted>
  <dcterms:modified xsi:type="dcterms:W3CDTF">2024-06-18T09:48:14Z</dcterms:modified>
  <cp:revision>123</cp:revision>
  <dc:subject/>
  <dc:title>CD VIA</dc:title>
</cp:coreProperties>
</file>